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9CB3-C459-4099-BE09-C49CAFE67E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345-3258-41AC-8803-7404C926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CDA-9361-45FD-ABB5-09053073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443-3B90-4915-8800-57A7F90E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A1F-5E12-4966-9ECF-6F3442A3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0BE-801A-49F1-A993-9E389E61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A75-49F7-4F7B-BC36-37440E74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8B0-EA9F-4B9B-99DF-79EF2330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991-BA24-4F8C-B7EE-469EC9A4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885-0668-4864-B772-3EB4BAEA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66E-BFC9-4169-9BCE-1A69CB1A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60F-FB8E-4EE8-9BE6-1D921FD3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F68-5719-43EE-A686-940BD7FB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9DCD-168F-4D19-B129-9628BA3EE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Line 100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1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2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3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4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5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6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7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8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9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0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1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2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3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4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5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6"/>
          <p:cNvSpPr/>
          <p:nvPr/>
        </p:nvSpPr>
        <p:spPr>
          <a:xfrm>
            <a:off x="7315200" y="3809880"/>
            <a:ext cx="1295280" cy="1524240"/>
          </a:xfrm>
          <a:custGeom>
            <a:avLst/>
            <a:gdLst/>
            <a:ahLst/>
            <a:rect l="l" t="t" r="r" b="b"/>
            <a:pathLst>
              <a:path w="816" h="960">
                <a:moveTo>
                  <a:pt x="0" y="0"/>
                </a:moveTo>
                <a:cubicBezTo>
                  <a:pt x="148" y="480"/>
                  <a:pt x="296" y="960"/>
                  <a:pt x="432" y="960"/>
                </a:cubicBezTo>
                <a:cubicBezTo>
                  <a:pt x="568" y="960"/>
                  <a:pt x="692" y="480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8686800" cy="44895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  <a:gridCol w="723600"/>
                <a:gridCol w="723960"/>
                <a:gridCol w="723960"/>
                <a:gridCol w="723960"/>
                <a:gridCol w="723960"/>
                <a:gridCol w="723960"/>
                <a:gridCol w="723600"/>
                <a:gridCol w="723960"/>
                <a:gridCol w="7239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6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7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19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20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1"/>
          <p:cNvSpPr/>
          <p:nvPr/>
        </p:nvSpPr>
        <p:spPr>
          <a:xfrm flipH="1">
            <a:off x="533160" y="1066680"/>
            <a:ext cx="4343400" cy="2819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2"/>
          <p:cNvSpPr/>
          <p:nvPr/>
        </p:nvSpPr>
        <p:spPr>
          <a:xfrm>
            <a:off x="4876920" y="1143000"/>
            <a:ext cx="373356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50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50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46180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4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5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16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17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0"/>
          <p:cNvSpPr/>
          <p:nvPr/>
        </p:nvSpPr>
        <p:spPr>
          <a:xfrm>
            <a:off x="2514600" y="5335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1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2"/>
          <p:cNvSpPr/>
          <p:nvPr/>
        </p:nvSpPr>
        <p:spPr>
          <a:xfrm>
            <a:off x="279360" y="2286000"/>
            <a:ext cx="2921040" cy="3137040"/>
          </a:xfrm>
          <a:custGeom>
            <a:avLst/>
            <a:gdLst/>
            <a:ahLst/>
            <a:rect l="l" t="t" r="r" b="b"/>
            <a:pathLst>
              <a:path w="1840" h="1976">
                <a:moveTo>
                  <a:pt x="64" y="1008"/>
                </a:moveTo>
                <a:cubicBezTo>
                  <a:pt x="32" y="920"/>
                  <a:pt x="0" y="832"/>
                  <a:pt x="64" y="672"/>
                </a:cubicBezTo>
                <a:cubicBezTo>
                  <a:pt x="128" y="512"/>
                  <a:pt x="296" y="0"/>
                  <a:pt x="448" y="48"/>
                </a:cubicBezTo>
                <a:cubicBezTo>
                  <a:pt x="600" y="96"/>
                  <a:pt x="816" y="640"/>
                  <a:pt x="976" y="960"/>
                </a:cubicBezTo>
                <a:cubicBezTo>
                  <a:pt x="1136" y="1280"/>
                  <a:pt x="1264" y="1976"/>
                  <a:pt x="1408" y="1968"/>
                </a:cubicBezTo>
                <a:cubicBezTo>
                  <a:pt x="1552" y="1960"/>
                  <a:pt x="1696" y="1436"/>
                  <a:pt x="1840" y="9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4"/>
          <p:cNvSpPr/>
          <p:nvPr/>
        </p:nvSpPr>
        <p:spPr>
          <a:xfrm>
            <a:off x="7277040" y="3809880"/>
            <a:ext cx="1409760" cy="1473480"/>
          </a:xfrm>
          <a:custGeom>
            <a:avLst/>
            <a:gdLst/>
            <a:ahLst/>
            <a:rect l="l" t="t" r="r" b="b"/>
            <a:pathLst>
              <a:path w="888" h="928">
                <a:moveTo>
                  <a:pt x="24" y="48"/>
                </a:moveTo>
                <a:cubicBezTo>
                  <a:pt x="12" y="24"/>
                  <a:pt x="0" y="0"/>
                  <a:pt x="72" y="144"/>
                </a:cubicBezTo>
                <a:cubicBezTo>
                  <a:pt x="144" y="288"/>
                  <a:pt x="320" y="928"/>
                  <a:pt x="456" y="912"/>
                </a:cubicBezTo>
                <a:cubicBezTo>
                  <a:pt x="592" y="896"/>
                  <a:pt x="740" y="472"/>
                  <a:pt x="888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5800" y="1905120"/>
            <a:ext cx="7315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iz yours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Freeform 168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9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0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1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2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3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4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5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6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77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8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79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80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1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2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Line 11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5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6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7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8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9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0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1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2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3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4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5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6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7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8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9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0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1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Freeform 84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5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6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7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8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9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0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1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2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3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4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5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6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7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8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9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0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762760" cy="6476760"/>
          </a:xfrm>
          <a:prstGeom prst="rect">
            <a:avLst/>
          </a:prstGeom>
          <a:gradFill rotWithShape="0">
            <a:gsLst>
              <a:gs pos="0">
                <a:srgbClr val="717163"/>
              </a:gs>
              <a:gs pos="50000">
                <a:srgbClr val="f4f4d6"/>
              </a:gs>
              <a:gs pos="100000">
                <a:srgbClr val="71716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4"/>
          <p:cNvSpPr txBox="1"/>
          <p:nvPr/>
        </p:nvSpPr>
        <p:spPr>
          <a:xfrm>
            <a:off x="762120" y="2514600"/>
            <a:ext cx="7543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eck your answ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Freeform 80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1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2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3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4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5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6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7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8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2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3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4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5"/>
          <p:cNvSpPr/>
          <p:nvPr/>
        </p:nvSpPr>
        <p:spPr>
          <a:xfrm>
            <a:off x="457200" y="1600200"/>
            <a:ext cx="4800600" cy="4533840"/>
          </a:xfrm>
          <a:custGeom>
            <a:avLst/>
            <a:gdLst/>
            <a:ahLst/>
            <a:rect l="l" t="t" r="r" b="b"/>
            <a:pathLst>
              <a:path w="3024" h="2856">
                <a:moveTo>
                  <a:pt x="0" y="1360"/>
                </a:moveTo>
                <a:cubicBezTo>
                  <a:pt x="256" y="680"/>
                  <a:pt x="512" y="0"/>
                  <a:pt x="768" y="16"/>
                </a:cubicBezTo>
                <a:cubicBezTo>
                  <a:pt x="1024" y="32"/>
                  <a:pt x="1288" y="984"/>
                  <a:pt x="1536" y="1456"/>
                </a:cubicBezTo>
                <a:cubicBezTo>
                  <a:pt x="1784" y="1928"/>
                  <a:pt x="2008" y="2856"/>
                  <a:pt x="2256" y="2848"/>
                </a:cubicBezTo>
                <a:cubicBezTo>
                  <a:pt x="2504" y="2840"/>
                  <a:pt x="2764" y="2124"/>
                  <a:pt x="3024" y="1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9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98680"/>
                <a:gridCol w="57600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Line 110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11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2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3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14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5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6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8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9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0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1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2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3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4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5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6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7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28"/>
          <p:cNvSpPr/>
          <p:nvPr/>
        </p:nvSpPr>
        <p:spPr>
          <a:xfrm>
            <a:off x="444600" y="1625760"/>
            <a:ext cx="2298600" cy="4546440"/>
          </a:xfrm>
          <a:custGeom>
            <a:avLst/>
            <a:gdLst/>
            <a:ahLst/>
            <a:rect l="l" t="t" r="r" b="b"/>
            <a:pathLst>
              <a:path w="1448" h="2864">
                <a:moveTo>
                  <a:pt x="8" y="1376"/>
                </a:moveTo>
                <a:cubicBezTo>
                  <a:pt x="4" y="1392"/>
                  <a:pt x="0" y="1408"/>
                  <a:pt x="56" y="1184"/>
                </a:cubicBezTo>
                <a:cubicBezTo>
                  <a:pt x="112" y="960"/>
                  <a:pt x="232" y="0"/>
                  <a:pt x="344" y="32"/>
                </a:cubicBezTo>
                <a:cubicBezTo>
                  <a:pt x="456" y="64"/>
                  <a:pt x="600" y="904"/>
                  <a:pt x="728" y="1376"/>
                </a:cubicBezTo>
                <a:cubicBezTo>
                  <a:pt x="856" y="1848"/>
                  <a:pt x="992" y="2864"/>
                  <a:pt x="1112" y="2864"/>
                </a:cubicBezTo>
                <a:cubicBezTo>
                  <a:pt x="1232" y="2864"/>
                  <a:pt x="1340" y="2120"/>
                  <a:pt x="1448" y="137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7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Freeform 80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1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2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3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4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6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7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8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9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2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3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4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5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6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97"/>
          <p:cNvSpPr/>
          <p:nvPr/>
        </p:nvSpPr>
        <p:spPr>
          <a:xfrm>
            <a:off x="380880" y="1600200"/>
            <a:ext cx="2362320" cy="4495680"/>
          </a:xfrm>
          <a:custGeom>
            <a:avLst/>
            <a:gdLst/>
            <a:ahLst/>
            <a:rect l="l" t="t" r="r" b="b"/>
            <a:pathLst>
              <a:path w="1488" h="2832">
                <a:moveTo>
                  <a:pt x="0" y="1440"/>
                </a:moveTo>
                <a:cubicBezTo>
                  <a:pt x="104" y="720"/>
                  <a:pt x="208" y="0"/>
                  <a:pt x="336" y="0"/>
                </a:cubicBezTo>
                <a:cubicBezTo>
                  <a:pt x="464" y="0"/>
                  <a:pt x="632" y="968"/>
                  <a:pt x="768" y="1440"/>
                </a:cubicBezTo>
                <a:cubicBezTo>
                  <a:pt x="904" y="1912"/>
                  <a:pt x="1032" y="2832"/>
                  <a:pt x="1152" y="2832"/>
                </a:cubicBezTo>
                <a:cubicBezTo>
                  <a:pt x="1272" y="2832"/>
                  <a:pt x="1380" y="2136"/>
                  <a:pt x="1488" y="144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5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1143000" y="2209680"/>
            <a:ext cx="6400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ow did you do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676520" y="3581280"/>
            <a:ext cx="17524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 flipH="1" rot="5400000">
            <a:off x="3276360" y="4266720"/>
            <a:ext cx="3049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 flipV="1">
            <a:off x="4419720" y="3962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432320" y="3149640"/>
            <a:ext cx="2502000" cy="2311200"/>
          </a:xfrm>
          <a:custGeom>
            <a:avLst/>
            <a:gdLst/>
            <a:ahLst/>
            <a:rect l="l" t="t" r="r" b="b"/>
            <a:pathLst>
              <a:path w="1576" h="1456">
                <a:moveTo>
                  <a:pt x="40" y="608"/>
                </a:moveTo>
                <a:cubicBezTo>
                  <a:pt x="20" y="560"/>
                  <a:pt x="0" y="512"/>
                  <a:pt x="40" y="416"/>
                </a:cubicBezTo>
                <a:cubicBezTo>
                  <a:pt x="80" y="320"/>
                  <a:pt x="168" y="64"/>
                  <a:pt x="280" y="32"/>
                </a:cubicBezTo>
                <a:cubicBezTo>
                  <a:pt x="392" y="0"/>
                  <a:pt x="600" y="40"/>
                  <a:pt x="712" y="224"/>
                </a:cubicBezTo>
                <a:cubicBezTo>
                  <a:pt x="824" y="408"/>
                  <a:pt x="840" y="944"/>
                  <a:pt x="952" y="1136"/>
                </a:cubicBezTo>
                <a:cubicBezTo>
                  <a:pt x="1064" y="1328"/>
                  <a:pt x="1280" y="1456"/>
                  <a:pt x="1384" y="1376"/>
                </a:cubicBezTo>
                <a:cubicBezTo>
                  <a:pt x="1488" y="1296"/>
                  <a:pt x="1532" y="976"/>
                  <a:pt x="1576" y="6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896 0.02646 C -0.20781 -0.04294 -0.16997 -0.11003 -0.11424 -0.12256 C -0.05885 -0.1351 -0.0066 -0.08867 0.00226 -0.01903 C 0.01111 0.05084 -0.02691 0.11746 -0.08229 0.12999 C -0.13785 0.14276 -0.1901 0.09633 -0.19896 0.02646 Z">
                                      <p:cBhvr>
                                        <p:cTn id="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3691 C -0.00729 -0.05478 0.02049 -0.1286 0.05608 -0.13208 C 0.0934 -0.1344 0.12639 -0.06615 0.13108 0.02554 C 0.13559 0.11676 0.16823 0.18431 0.20573 0.18083 C 0.24149 0.17735 0.26736 0.10515 0.26302 0.01416 E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49440"/>
                <a:gridCol w="70812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Line 576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577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80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82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83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84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8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89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90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91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92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93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94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5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96"/>
          <p:cNvSpPr/>
          <p:nvPr/>
        </p:nvSpPr>
        <p:spPr>
          <a:xfrm>
            <a:off x="304920" y="774720"/>
            <a:ext cx="2743200" cy="6095880"/>
          </a:xfrm>
          <a:custGeom>
            <a:avLst/>
            <a:gdLst/>
            <a:ahLst/>
            <a:rect l="l" t="t" r="r" b="b"/>
            <a:pathLst>
              <a:path w="1728" h="3840">
                <a:moveTo>
                  <a:pt x="0" y="1960"/>
                </a:moveTo>
                <a:cubicBezTo>
                  <a:pt x="100" y="1336"/>
                  <a:pt x="200" y="712"/>
                  <a:pt x="288" y="472"/>
                </a:cubicBezTo>
                <a:cubicBezTo>
                  <a:pt x="376" y="232"/>
                  <a:pt x="368" y="0"/>
                  <a:pt x="528" y="520"/>
                </a:cubicBezTo>
                <a:cubicBezTo>
                  <a:pt x="688" y="1040"/>
                  <a:pt x="1048" y="3344"/>
                  <a:pt x="1248" y="3592"/>
                </a:cubicBezTo>
                <a:cubicBezTo>
                  <a:pt x="1448" y="3840"/>
                  <a:pt x="1588" y="2924"/>
                  <a:pt x="1728" y="20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97"/>
          <p:cNvSpPr/>
          <p:nvPr/>
        </p:nvSpPr>
        <p:spPr>
          <a:xfrm>
            <a:off x="2959200" y="1359000"/>
            <a:ext cx="2755800" cy="5207040"/>
          </a:xfrm>
          <a:custGeom>
            <a:avLst/>
            <a:gdLst/>
            <a:ahLst/>
            <a:rect l="l" t="t" r="r" b="b"/>
            <a:pathLst>
              <a:path w="1736" h="3280">
                <a:moveTo>
                  <a:pt x="56" y="1640"/>
                </a:moveTo>
                <a:cubicBezTo>
                  <a:pt x="28" y="1728"/>
                  <a:pt x="0" y="1816"/>
                  <a:pt x="56" y="1544"/>
                </a:cubicBezTo>
                <a:cubicBezTo>
                  <a:pt x="112" y="1272"/>
                  <a:pt x="264" y="0"/>
                  <a:pt x="392" y="8"/>
                </a:cubicBezTo>
                <a:cubicBezTo>
                  <a:pt x="520" y="16"/>
                  <a:pt x="680" y="1048"/>
                  <a:pt x="824" y="1592"/>
                </a:cubicBezTo>
                <a:cubicBezTo>
                  <a:pt x="968" y="2136"/>
                  <a:pt x="1104" y="3264"/>
                  <a:pt x="1256" y="3272"/>
                </a:cubicBezTo>
                <a:cubicBezTo>
                  <a:pt x="1408" y="3280"/>
                  <a:pt x="1572" y="2460"/>
                  <a:pt x="1736" y="164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598"/>
          <p:cNvSpPr/>
          <p:nvPr/>
        </p:nvSpPr>
        <p:spPr>
          <a:xfrm>
            <a:off x="5715000" y="1371600"/>
            <a:ext cx="2743200" cy="5181480"/>
          </a:xfrm>
          <a:custGeom>
            <a:avLst/>
            <a:gdLst/>
            <a:ahLst/>
            <a:rect l="l" t="t" r="r" b="b"/>
            <a:pathLst>
              <a:path w="1728" h="3264">
                <a:moveTo>
                  <a:pt x="0" y="1632"/>
                </a:moveTo>
                <a:cubicBezTo>
                  <a:pt x="120" y="816"/>
                  <a:pt x="240" y="0"/>
                  <a:pt x="384" y="0"/>
                </a:cubicBezTo>
                <a:cubicBezTo>
                  <a:pt x="528" y="0"/>
                  <a:pt x="720" y="1088"/>
                  <a:pt x="864" y="1632"/>
                </a:cubicBezTo>
                <a:cubicBezTo>
                  <a:pt x="1008" y="2176"/>
                  <a:pt x="1104" y="3264"/>
                  <a:pt x="1248" y="3264"/>
                </a:cubicBezTo>
                <a:cubicBezTo>
                  <a:pt x="1392" y="3264"/>
                  <a:pt x="1560" y="2448"/>
                  <a:pt x="1728" y="163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99"/>
          <p:cNvSpPr/>
          <p:nvPr/>
        </p:nvSpPr>
        <p:spPr>
          <a:xfrm>
            <a:off x="1981080" y="3808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8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38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5"/>
          <p:cNvSpPr/>
          <p:nvPr/>
        </p:nvSpPr>
        <p:spPr>
          <a:xfrm>
            <a:off x="3049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76"/>
          <p:cNvSpPr/>
          <p:nvPr/>
        </p:nvSpPr>
        <p:spPr>
          <a:xfrm flipH="1">
            <a:off x="304920" y="990720"/>
            <a:ext cx="2286000" cy="2895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7"/>
          <p:cNvSpPr/>
          <p:nvPr/>
        </p:nvSpPr>
        <p:spPr>
          <a:xfrm>
            <a:off x="6172200" y="990720"/>
            <a:ext cx="2362320" cy="3047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=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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e7e7b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 cycle in 4 seconds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733680"/>
                <a:gridCol w="627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75"/>
          <p:cNvSpPr/>
          <p:nvPr/>
        </p:nvSpPr>
        <p:spPr>
          <a:xfrm>
            <a:off x="304920" y="1282680"/>
            <a:ext cx="2743200" cy="5270400"/>
          </a:xfrm>
          <a:custGeom>
            <a:avLst/>
            <a:gdLst/>
            <a:ahLst/>
            <a:rect l="l" t="t" r="r" b="b"/>
            <a:pathLst>
              <a:path w="1728" h="3320">
                <a:moveTo>
                  <a:pt x="0" y="1640"/>
                </a:moveTo>
                <a:cubicBezTo>
                  <a:pt x="120" y="820"/>
                  <a:pt x="240" y="0"/>
                  <a:pt x="384" y="8"/>
                </a:cubicBezTo>
                <a:cubicBezTo>
                  <a:pt x="528" y="16"/>
                  <a:pt x="720" y="1136"/>
                  <a:pt x="864" y="1688"/>
                </a:cubicBezTo>
                <a:cubicBezTo>
                  <a:pt x="1008" y="2240"/>
                  <a:pt x="1104" y="3320"/>
                  <a:pt x="1248" y="3320"/>
                </a:cubicBezTo>
                <a:cubicBezTo>
                  <a:pt x="1392" y="3320"/>
                  <a:pt x="1560" y="2504"/>
                  <a:pt x="1728" y="168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7"/>
          <p:cNvSpPr/>
          <p:nvPr/>
        </p:nvSpPr>
        <p:spPr>
          <a:xfrm>
            <a:off x="30492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5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8:37:47Z</dcterms:created>
  <dc:creator>administrator</dc:creator>
  <dc:description/>
  <dc:language>en-US</dc:language>
  <cp:lastModifiedBy>RomaK</cp:lastModifiedBy>
  <dcterms:modified xsi:type="dcterms:W3CDTF">2015-09-03T12:21:21Z</dcterms:modified>
  <cp:revision>8</cp:revision>
  <dc:subject/>
  <dc:title>Determining wave frequency from a graph</dc:title>
</cp:coreProperties>
</file>